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CBE1F-DE81-4EDD-BAE8-5F9C26D38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17799-B201-418F-8559-DFAF79E99B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F687-E6B0-45C2-BF04-4DDDBD49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0CD-C7EF-41BD-99E2-954C7132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BFE-BD22-4F84-AF3B-BE82261C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BA8-9B71-4E8E-B471-9D31AF60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595-A931-4884-B8C7-4081F3AA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09C1-9B98-467A-87B7-C21DC576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C24-FF18-4573-9213-E91FCEA0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B6E-3527-41C2-8BF6-9027B1D0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6200"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E55-75DB-497D-B076-5CA2E476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FC43-2B8B-4565-BB19-90992A82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DC0-DF50-45F9-BBAF-DBE57F0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60E-0816-4451-882D-D3699F1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15480-304F-45A7-8228-866DE12B7C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uva 2" descr="KOL_PP_kansi_1.jpg"/>
          <p:cNvPicPr/>
          <p:nvPr/>
        </p:nvPicPr>
        <p:blipFill>
          <a:blip r:embed="rId1"/>
          <a:stretch/>
        </p:blipFill>
        <p:spPr>
          <a:xfrm>
            <a:off x="0" y="1440"/>
            <a:ext cx="10080720" cy="755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uva 5" descr="KOL_PP_tausta_1.jpg"/>
          <p:cNvPicPr/>
          <p:nvPr/>
        </p:nvPicPr>
        <p:blipFill>
          <a:blip r:embed="rId1"/>
          <a:stretch/>
        </p:blipFill>
        <p:spPr>
          <a:xfrm>
            <a:off x="0" y="1440"/>
            <a:ext cx="10080720" cy="7556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685440"/>
            <a:ext cx="907236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0200" indent="0" algn="ctr">
              <a:lnSpc>
                <a:spcPct val="98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037631"/>
                </a:solidFill>
                <a:latin typeface="Trebuchet MS"/>
              </a:rPr>
              <a:t>Keskustan Opiskelijaliiton kuntavaalitee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96920"/>
            <a:ext cx="8915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rebuchet MS"/>
              </a:rPr>
              <a:t>Ammattikorkeakouluopiskelijoiden terveydenhuoltoa on kehitettävä vastaamaan opiskelijoiden todellisia tarp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mmattikorkeakoululaisten terveydenhuolto ei toimi kunnolla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-&gt; Ammattikorkeakoulupaikkakuntien tulee kiinnittää huomiota terveydenhuoltopalvelui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7:48:57Z</dcterms:created>
  <dc:creator/>
  <dc:description/>
  <dc:language>en-US</dc:language>
  <cp:lastModifiedBy>Jaakko Tikkanen</cp:lastModifiedBy>
  <dcterms:modified xsi:type="dcterms:W3CDTF">2011-01-02T19:17:31Z</dcterms:modified>
  <cp:revision>5</cp:revision>
  <dc:subject/>
  <dc:title>Keskustan Opiskelijaliiton kuntavaaliteemat</dc:title>
</cp:coreProperties>
</file>